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4608-C30D-492D-8954-BB4EB3256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1FB0-F33D-4E60-90C2-A7FF9B33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9CC5-6E7B-4A57-8011-10ED6A1FD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5E89-56DD-4238-8853-F343019B9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55CA-BCDF-46E8-8217-3499EC25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8408-AAAD-4F01-89A3-14199BEB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9D8E-6B89-43A9-AFB7-6E9F3B07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4B4E-D8A5-49AA-8ED9-2A20954A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D7F7-B2AD-48A2-AC5F-50F6CFB8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767D-207C-44B5-B80D-A70FE076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81DC-8207-4BBC-90C5-34328697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B8CD-D0EB-4590-B912-6AE5B50C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1429-08ED-4B4A-A9ED-6507EA6C0FF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1484280"/>
            <a:ext cx="86659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وكل على الله تعالى والثقة به جل وعلا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0920" y="220500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إقامة الصلاة في أوقاتها وأدائها كاملة بشروطها وواجباتها مع استحضار القلب وخشوع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27160" y="2924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كبر علامات خشية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أن يحجز صاحبه عن فعل الذنوب والمعاص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559720" cy="4248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6156360" y="2852640"/>
            <a:ext cx="2340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إذا ذكر الله وجلت قلوبه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3059280" y="2708280"/>
            <a:ext cx="2341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إذا تليت عليهم آياته زادتهم إيمانا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50920" y="2708280"/>
            <a:ext cx="2341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ى ربهم يتوكلو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عنوان 1"/>
          <p:cNvSpPr/>
          <p:nvPr/>
        </p:nvSpPr>
        <p:spPr>
          <a:xfrm>
            <a:off x="6084720" y="4221000"/>
            <a:ext cx="2340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يقيمون الصلا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2987640" y="4373640"/>
            <a:ext cx="2340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مما رزقهم الله ينفقو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250920" y="995400"/>
            <a:ext cx="8532720" cy="5529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250920" y="2133720"/>
            <a:ext cx="666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يقيمون وقعت في (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7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 ) سنة (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) للهجرة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250920" y="3500280"/>
            <a:ext cx="666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سترجاع المسلمين لأموالهم التي نهبها كفار قريش من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71280" y="4653000"/>
            <a:ext cx="529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عدد المسلمين (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314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) عدد المشركين (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1000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1619280" y="5877000"/>
            <a:ext cx="529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نتصار المسلمين وهزيمة المشرك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8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>
            <a:off x="611280" y="1700280"/>
            <a:ext cx="813888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5" name="عنوان 1"/>
          <p:cNvSpPr/>
          <p:nvPr/>
        </p:nvSpPr>
        <p:spPr>
          <a:xfrm>
            <a:off x="223920" y="580536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ألفة 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محبة 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اتفا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10" descr=""/>
          <p:cNvPicPr/>
          <p:nvPr/>
        </p:nvPicPr>
        <p:blipFill>
          <a:blip r:embed="rId3"/>
          <a:stretch/>
        </p:blipFill>
        <p:spPr>
          <a:xfrm>
            <a:off x="1284120" y="1052640"/>
            <a:ext cx="7631280" cy="583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"/>
          <p:cNvPicPr/>
          <p:nvPr/>
        </p:nvPicPr>
        <p:blipFill>
          <a:blip r:embed="rId4"/>
          <a:stretch/>
        </p:blipFill>
        <p:spPr>
          <a:xfrm>
            <a:off x="1081080" y="3213000"/>
            <a:ext cx="7834320" cy="609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"/>
          <p:cNvPicPr/>
          <p:nvPr/>
        </p:nvPicPr>
        <p:blipFill>
          <a:blip r:embed="rId5"/>
          <a:stretch/>
        </p:blipFill>
        <p:spPr>
          <a:xfrm>
            <a:off x="2793960" y="5229360"/>
            <a:ext cx="6121440" cy="54612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203040" y="1628640"/>
            <a:ext cx="86918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لاوة الآيا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ذكر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توكل على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عنوان 1"/>
          <p:cNvSpPr/>
          <p:nvPr/>
        </p:nvSpPr>
        <p:spPr>
          <a:xfrm>
            <a:off x="216000" y="3860640"/>
            <a:ext cx="86914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من التوكل الأخذ بالأسبا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09600" y="252360"/>
            <a:ext cx="85248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96"/>
          <a:stretch/>
        </p:blipFill>
        <p:spPr>
          <a:xfrm>
            <a:off x="250920" y="1998720"/>
            <a:ext cx="86281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38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179280" y="1822320"/>
            <a:ext cx="8690040" cy="39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86058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158760" y="1197000"/>
            <a:ext cx="8825040" cy="1574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8028000" y="1865160"/>
            <a:ext cx="1368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1f497d"/>
                </a:solidFill>
                <a:latin typeface="Wingdings"/>
                <a:ea typeface="Wingdings"/>
              </a:rPr>
              <a:t>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0" descr=""/>
          <p:cNvPicPr/>
          <p:nvPr/>
        </p:nvPicPr>
        <p:blipFill>
          <a:blip r:embed="rId1"/>
          <a:stretch/>
        </p:blipFill>
        <p:spPr>
          <a:xfrm>
            <a:off x="250920" y="2430360"/>
            <a:ext cx="8642160" cy="423864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50920" y="53672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ازل في الجن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60930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ج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50920" y="1052640"/>
            <a:ext cx="8665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نزول قوله تعالى : 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ذكر عبادة بن الصامت أنه في غزوة بدر اختلفوا في النفل فقسمه رسول الله بين المسلمين سواس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3"/>
          <a:stretch/>
        </p:blipFill>
        <p:spPr>
          <a:xfrm>
            <a:off x="539640" y="958680"/>
            <a:ext cx="5688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2195640" y="1268280"/>
            <a:ext cx="482436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1484280"/>
            <a:ext cx="8665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تشريع حق خاص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 ولرسو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0680" y="220500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إصلاح ذات الب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ث عليه الإ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2924280"/>
            <a:ext cx="8665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أن يكون المؤمنون إخوة متحاب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حث عليه الإسل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3716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طاعة الله ورسو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443700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يمان هو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ا وقر في القلب وصدقته الأعما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515772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يمان يز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الطاع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587700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يمان ينقص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المعاص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